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9B1-4BC8-41D2-BFBD-3F221AC9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2EAF-A0BC-499B-A2EA-DC9B18F8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ECAE-EC2F-405D-A195-7590E9AC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4AA6-C4BA-42EE-959C-550006A3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EB8D-4BED-49A5-B0DE-D0335541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0193-458E-488C-B85F-19D23CAE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2AC1-EFD5-4B58-B7DD-34DCBF56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D074-D0A9-434E-8D0F-4E2122F7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AB3A-8F50-42FF-97D4-1F3AD7F4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DEF9-9DBA-4A51-80D6-2F50F07B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4FCD-B1D1-4D7C-A23C-A1F95AE2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8BEC-FBBF-48BC-BF3E-8520485E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5173-B6C0-412C-8D23-F051D1C6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7DF8-D7A4-4C33-9BE7-16BE740F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8CDC-D6CE-42D4-9BC2-E9BA15A5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0AF9-B7A6-4B81-9D46-72C09DB6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9317-7E12-4184-BD6E-7D258BAE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CD0D-03C2-4AD2-8F46-21375CE5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EAD-926A-4DA0-ACF1-1C4032C5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1327-D111-4457-B4E5-98423B06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122-5A64-4A29-A0EF-9B63716F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5CBA-FBC1-4EA4-8FCE-5937ADCB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3CBF-9789-4FC3-8C12-FEA6316D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9F2-E9F6-483E-8F6E-8779DE82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4163-EF82-4412-B09B-B30AFAE48E04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EA55-8AA1-4EE5-A26D-FFADF50301D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news.bbc.co.uk/1/hi/world/africa/1072684.stm" TargetMode="External"/><Relationship Id="rId2" Type="http://schemas.openxmlformats.org/officeDocument/2006/relationships/hyperlink" Target="http://www.dictionary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.S. Political Involvement in the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y: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Jon 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Jeff W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ric 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ebsite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news.bbc.co.uk/1/hi/world/africa/1072684.st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www.dictionary.co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ook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The Poisonwood Bi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me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1960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June - Congo becomes independent with Patrice Lumumba as prime minister and Joseph Kasavubu as president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1960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July - Congolese army mutinies; Moise Tshombe declares Katanga independent; Belgian troops sent in ostensibly to protect Belgian citizens and mining interests; UN Security Council votes to send in troops to help establish order, but the troops are not allowed to intervene in internal affairs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1960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September - Kasavubu dismisses Lumumba as prime minister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1960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December - Lumumba arrested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1961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February - Lumumba murdered, reportedly with US and Belgian complicity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1961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August - UN troops begin disarming Katangese soldiers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1963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- Tshombe agrees to end Katanga's secession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1964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- President Kasavubu appoints Tshombe prime minister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(continued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butu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6095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1965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- Kasavubu and Tshombe ousted in a coup led by Joseph Mobutu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1971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- Joseph Mobutu renames the country Zaire and himself Mobutu Sese Seko; also Katanga becomes Shaba and the river Congo becomes the river Zaire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1973-74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- Mobutu nationalizes many foreign-owned firms and forces European investors out of the country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1977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- Mobutu invites foreign investors back, without much success; French, Belgian and Moroccan troops help repulse attack on Katanga by Angolan-based rebels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1989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- Zaire defaults on loans from Belgium, resulting in a cancellation of development programmes and increased deterioration of the economy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8" name="" descr="Mobutu Sese Seko"/>
          <p:cNvPicPr/>
          <p:nvPr/>
        </p:nvPicPr>
        <p:blipFill>
          <a:blip r:embed="rId1"/>
          <a:stretch/>
        </p:blipFill>
        <p:spPr>
          <a:xfrm>
            <a:off x="6861240" y="2057400"/>
            <a:ext cx="2282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433)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natole: “If the American’s mean to teach us about democracy, the lesson is quiet remarkable.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433)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eah: “Mobutu’s US advisors even tried to hold elections here, but then got furious when the wrong person won.—Antoine Gizenga, Lumumba’s Lieutenant.  So they marched the army into parliament and re-organized it once again in Mobutu’s favor.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436-437)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eah: “When thirty foreigners were killed in Stanleyville, Each one was tied somehow to a solid exchange, a gold standard like the hard Belgian frank.  But the Congolese life is like the useless Congolese bill, which you can pile by the fistful or the bucketful into a merchant’s hand, and still not purchase a single banana.”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456)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eah: “The United States has now become the husband of Zaire’s economy, and not very a nice one.  Exploitive and condescending, in the name of steering her clear of the moral decline inevitable to her nature.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458)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eah: “The power line was never meant to succeed at all… Anyone could have predicted that exact failure.  But by loaning the Congo more than a billion dollars for the power line, the world Export-Import Bank assured a permanent debt that we’ll repay in cobalt and diamonds from now till the end of time.  Or at least the end of Mobutu.”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eah is basically the author’s voice for political opinions in the book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he shows a lot of examples of the U.S. bullies the Congo and uses them for their own financial gai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he seems to be sympathetic towards Lumumba and his follower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1:20:00Z</dcterms:created>
  <dc:creator>Jon</dc:creator>
  <dc:description/>
  <dc:language>en-US</dc:language>
  <cp:lastModifiedBy>Jeff Grayson</cp:lastModifiedBy>
  <dcterms:modified xsi:type="dcterms:W3CDTF">2003-07-11T12:50:26Z</dcterms:modified>
  <cp:revision>4</cp:revision>
  <dc:subject/>
  <dc:title>U.S. Political Involvement in the World</dc:title>
</cp:coreProperties>
</file>